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784872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2160" y="4041360"/>
            <a:ext cx="784872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080" y="127908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2160" y="404136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080" y="404136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25272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6080" y="1279080"/>
            <a:ext cx="25272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000" y="1279080"/>
            <a:ext cx="25272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2160" y="4041360"/>
            <a:ext cx="25272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6080" y="4041360"/>
            <a:ext cx="25272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000" y="4041360"/>
            <a:ext cx="252720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2160" y="1279080"/>
            <a:ext cx="784872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78487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3830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080" y="1279080"/>
            <a:ext cx="3830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3760" y="47592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080" y="1279080"/>
            <a:ext cx="3830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2160" y="404136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38300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080" y="127908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080" y="404136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2160" y="127908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080" y="1279080"/>
            <a:ext cx="383004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2160" y="4041360"/>
            <a:ext cx="7848720" cy="25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Click to edit the title text format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2160" y="1279080"/>
            <a:ext cx="78487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224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spcBef>
                <a:spcPts val="1125"/>
              </a:spcBef>
              <a:spcAft>
                <a:spcPts val="224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1125"/>
              </a:spcBef>
              <a:spcAft>
                <a:spcPts val="224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3" marL="1600200" indent="-228600">
              <a:spcBef>
                <a:spcPts val="1125"/>
              </a:spcBef>
              <a:spcAft>
                <a:spcPts val="224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4" marL="2057400" indent="-228600">
              <a:spcBef>
                <a:spcPts val="1125"/>
              </a:spcBef>
              <a:spcAft>
                <a:spcPts val="224"/>
              </a:spcAft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5" marL="2057400" indent="-228600">
              <a:spcBef>
                <a:spcPts val="1125"/>
              </a:spcBef>
              <a:spcAft>
                <a:spcPts val="224"/>
              </a:spcAft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6" marL="2057400" indent="-228600">
              <a:spcBef>
                <a:spcPts val="1125"/>
              </a:spcBef>
              <a:spcAft>
                <a:spcPts val="224"/>
              </a:spcAft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"/>
          <p:cNvSpPr/>
          <p:nvPr/>
        </p:nvSpPr>
        <p:spPr>
          <a:xfrm>
            <a:off x="8663040" y="6551640"/>
            <a:ext cx="480960" cy="33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3823-3586-43D6-B24F-C4E6B2F9C490}" type="slidenum">
              <a:rPr b="1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218440" y="115920"/>
          <a:ext cx="76356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18440" y="115920"/>
                    <a:ext cx="763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 flipH="1">
            <a:off x="212400" y="541440"/>
            <a:ext cx="87692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842000" y="3096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 Black"/>
              </a:rPr>
              <a:t>The 1</a:t>
            </a:r>
            <a:r>
              <a:rPr b="0" i="1" lang="en-US" sz="1000" spc="-1" strike="noStrike" baseline="30000">
                <a:solidFill>
                  <a:srgbClr val="808080"/>
                </a:solidFill>
                <a:latin typeface="Arial Black"/>
              </a:rPr>
              <a:t>st</a:t>
            </a:r>
            <a:r>
              <a:rPr b="0" i="1" lang="en-US" sz="1000" spc="-1" strike="noStrike">
                <a:solidFill>
                  <a:srgbClr val="808080"/>
                </a:solidFill>
                <a:latin typeface="Arial Black"/>
              </a:rPr>
              <a:t> World Cyber G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4680" y="1574640"/>
            <a:ext cx="7302600" cy="1325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410840"/>
            <a:ext cx="7924680" cy="1343160"/>
          </a:xfrm>
          <a:prstGeom prst="rect">
            <a:avLst/>
          </a:prstGeom>
          <a:solidFill>
            <a:srgbClr val="2d2d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6ef"/>
                </a:solidFill>
                <a:latin typeface="Arial"/>
                <a:ea typeface="굴림"/>
              </a:rPr>
              <a:t>The 1</a:t>
            </a:r>
            <a:r>
              <a:rPr b="1" i="1" lang="en-US" sz="3200" spc="-1" strike="noStrike" baseline="30000">
                <a:solidFill>
                  <a:srgbClr val="fff6ef"/>
                </a:solidFill>
                <a:latin typeface="Arial"/>
                <a:ea typeface="굴림"/>
              </a:rPr>
              <a:t>st</a:t>
            </a:r>
            <a:r>
              <a:rPr b="1" i="1" lang="en-US" sz="3200" spc="-1" strike="noStrike">
                <a:solidFill>
                  <a:srgbClr val="fff6ef"/>
                </a:solidFill>
                <a:latin typeface="Arial"/>
                <a:ea typeface="굴림"/>
              </a:rPr>
              <a:t> WORLD CYBER GAMES </a:t>
            </a:r>
            <a:r>
              <a:rPr b="1" i="1" lang="en-US" sz="3600" spc="-1" strike="noStrike">
                <a:solidFill>
                  <a:srgbClr val="eac302"/>
                </a:solidFill>
                <a:latin typeface="Arial"/>
                <a:ea typeface="굴림"/>
              </a:rPr>
              <a:t>Conference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>
            <a:off x="1444680" y="3949560"/>
            <a:ext cx="73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주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PC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온라인 게임의 미래와 콘솔게임의 온라인 전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2040" y="1164960"/>
            <a:ext cx="60674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Cliff Bleszinski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ff3300"/>
                </a:solidFill>
                <a:latin typeface="Arial"/>
              </a:rPr>
              <a:t>Epic Games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ession 1.1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주제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: “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소규모 팀으로 히트상품 제작 노하우” 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언리얼토너먼트 시리즈의 개발부문의 핵심인물인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Bleszinski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는 소규모팀이 훌륭한 게임을 어떻게 해야 만들수 있는지를 알고 있는 사람이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본 강의에서는 팀의 역할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,   Buiding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기술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엔진라이센싱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관리기술에 대해 강의를 한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.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제한된 예산으로 효과적으로 지출하는 것은 매우 중요하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참석자들은  적은수의 인원으로 질좋은 타이틀을 발매할 수 있는 방법을 알게 될 것이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26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세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Cliff Bleszinski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1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살때부터 게임산업에서 일해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199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년에 그는 우리가 흔히 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The Sonic the Hedgehog of the PC”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잘 알고있는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Jazz Jackrabbit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와 그 후속편을 디자인했으며  여러 게임업계와 미디어로부터 호평을 받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Unrea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의 최초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명의 개발자 중의 한 사람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Unreal Tournamen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 여러 번 “올해의 게임”으로 선정될 수 있게 한 수석 디자이너였으며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PlayStation 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용 사업을 시작하는데 큰 공헌을 하였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Unreal Tournamen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의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Dreamcast versi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을 제작하였으며 현재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Unreal 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제작 중에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러 번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E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와 게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Conferenc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강사로 참여하였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"/>
          <p:cNvSpPr/>
          <p:nvPr/>
        </p:nvSpPr>
        <p:spPr>
          <a:xfrm>
            <a:off x="430200" y="186228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2040" y="425304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67760" y="4630680"/>
            <a:ext cx="1249200" cy="1608480"/>
            <a:chOff x="7367760" y="4630680"/>
            <a:chExt cx="1249200" cy="1608480"/>
          </a:xfrm>
        </p:grpSpPr>
        <p:pic>
          <p:nvPicPr>
            <p:cNvPr id="121" name="Cliff%20Bleszinski%20from%20Epic%20Games" descr=""/>
            <p:cNvPicPr/>
            <p:nvPr/>
          </p:nvPicPr>
          <p:blipFill>
            <a:blip r:embed="rId2"/>
            <a:stretch/>
          </p:blipFill>
          <p:spPr>
            <a:xfrm>
              <a:off x="7434360" y="4630680"/>
              <a:ext cx="10652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367760" y="5962680"/>
              <a:ext cx="124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liff Bleszinsk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2040" y="1164960"/>
            <a:ext cx="611496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Bruce Shelle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ff3300"/>
                </a:solidFill>
                <a:latin typeface="Arial"/>
              </a:rPr>
              <a:t>Ensemble Studios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ession 1.2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주제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: “ GOD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게임의 성공개발전략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: Age of Mythology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작년 브루스쉘리는 월드사이버게임즈 포럼의 초대 강사로 게임개발의 상업적성공의 가이드라인을 제시 하였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올해 그가 돌아와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Age of Mythology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에 대한 새로운 실시간 전략게임의 개발 전략의 비법을 공개한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리고 작년에 그가 강의했던 개발전략을 통해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ensemble studios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가 개발하고 있는 게임들의 성공을 입증해 줄 것이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브루스는 전문 게임 디자이너와 개발자로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1980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년도부터 일해왔다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그는 보드게임 분야에서 일하기를 시작했고 컴퓨터 게임으로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1987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년도에 바꾸었다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그가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5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개의 게임 회사의 창업을 돕고 일해 왔다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. 1995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년도에 앙상블 스튜디오에서 시작하기 전에 브루스는 그들이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Microprose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에서 같이 일하던 때 레일로드 타이쿤과 문명의 원 에디션 디자인 작업에서 시드 마이어의 공동 작업자로 잘 알려져 왔다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.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그가 회사 조직하는 것을 도왔고 그들의 개발 방법론을 계발 시켜왔던 앙상블 스튜디오의 수석 디자이너 였다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그는 에이지 오브 엠파이어와 에이지오브엠파이어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II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의 설계에 기여했다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그는 최근 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The Academy of Interactive Arts and Sciences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의 임원으로 선출 되었다</a:t>
            </a:r>
            <a:r>
              <a:rPr b="0" lang="ko-KR" sz="1200" spc="-1" strike="noStrike">
                <a:solidFill>
                  <a:srgbClr val="383838"/>
                </a:solidFill>
                <a:latin typeface="Arial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5" name=""/>
          <p:cNvSpPr/>
          <p:nvPr/>
        </p:nvSpPr>
        <p:spPr>
          <a:xfrm>
            <a:off x="430200" y="190656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200" y="394812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01040" y="4037040"/>
            <a:ext cx="1190520" cy="1546560"/>
            <a:chOff x="7601040" y="4037040"/>
            <a:chExt cx="1190520" cy="1546560"/>
          </a:xfrm>
        </p:grpSpPr>
        <p:pic>
          <p:nvPicPr>
            <p:cNvPr id="128" name="Bruce%20shelley" descr=""/>
            <p:cNvPicPr/>
            <p:nvPr/>
          </p:nvPicPr>
          <p:blipFill>
            <a:blip r:embed="rId2"/>
            <a:stretch/>
          </p:blipFill>
          <p:spPr>
            <a:xfrm>
              <a:off x="7605720" y="4037040"/>
              <a:ext cx="9493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601040" y="5307120"/>
              <a:ext cx="11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Bruce Shel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1680" y="1164960"/>
            <a:ext cx="83948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Jack Porter, Mark Rein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o-KR" sz="1400" spc="-1" strike="noStrike">
                <a:solidFill>
                  <a:srgbClr val="ff3300"/>
                </a:solidFill>
                <a:latin typeface="Arial"/>
              </a:rPr>
              <a:t>Epic Games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ession 1.3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주제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“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숨겨진 언리얼 엔진의 기술 ”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마크레인과 잭 포터는 언리얼엔진에 대해 자세히 소개하고 직접 시연을 할 것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이다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. 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잭은 렌더링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네트워킹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에니메이션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인공지능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언리얼 스크립 프로그램 등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전 시스템에 대한 부분에 대해 강의를 해 줄것이며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,  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마크는 새로운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Karma physics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시스템과 라이센싱을  포함아여 언리얼 엔진에 대한 개요와 시연을 할 것이다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Mark Rein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Epic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사의 부사장이자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co-owner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로써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1998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년 백만장 이상 팔린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Unreal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과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1999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Computer Gaming World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가 선정하는 “올해의 게임”을 수상한  “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Unreal Tournament”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제작하였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  Epic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사는 또한 기술의 인가자로써도 성공을 거두었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현재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Unreal engine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은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PC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산업의 여러 우수 개발팀에서 사용되어지고 있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Jack Porter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1998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년부터 게임산업에 종사하여 전문 프로그래머로써  명성을  얻고 있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   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그는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Epic Megagames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사와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Digital Extremes,   Secret Level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사에서 전문 프로그래머로서 일을 해 왔고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최근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Epic Games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사의 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Top Programer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로 일하고 있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2" name=""/>
          <p:cNvSpPr/>
          <p:nvPr/>
        </p:nvSpPr>
        <p:spPr>
          <a:xfrm>
            <a:off x="430200" y="182880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4640" y="396072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288120" y="2201760"/>
            <a:ext cx="1266840" cy="1608480"/>
            <a:chOff x="6288120" y="2201760"/>
            <a:chExt cx="1266840" cy="1608480"/>
          </a:xfrm>
        </p:grpSpPr>
        <p:pic>
          <p:nvPicPr>
            <p:cNvPr id="135" name="markrein" descr=""/>
            <p:cNvPicPr/>
            <p:nvPr/>
          </p:nvPicPr>
          <p:blipFill>
            <a:blip r:embed="rId2"/>
            <a:stretch/>
          </p:blipFill>
          <p:spPr>
            <a:xfrm>
              <a:off x="6288120" y="2201760"/>
              <a:ext cx="115560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465600" y="3533760"/>
              <a:ext cx="108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ark R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88880" y="496260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704000" y="2214720"/>
            <a:ext cx="1040040" cy="1608120"/>
            <a:chOff x="7704000" y="2214720"/>
            <a:chExt cx="1040040" cy="1608120"/>
          </a:xfrm>
        </p:grpSpPr>
        <p:pic>
          <p:nvPicPr>
            <p:cNvPr id="140" name="JackPorter" descr=""/>
            <p:cNvPicPr/>
            <p:nvPr/>
          </p:nvPicPr>
          <p:blipFill>
            <a:blip r:embed="rId3"/>
            <a:stretch/>
          </p:blipFill>
          <p:spPr>
            <a:xfrm>
              <a:off x="7704000" y="2214720"/>
              <a:ext cx="104004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704000" y="3546360"/>
              <a:ext cx="104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Jack Po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040" y="1244160"/>
            <a:ext cx="681192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Alex Garden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3300"/>
                </a:solidFill>
                <a:latin typeface="Arial"/>
              </a:rPr>
              <a:t>Relic Entertainment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ession 1.4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Topic : </a:t>
            </a:r>
            <a:r>
              <a:rPr b="1" i="1" lang="ko-KR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온라인 게임의 확산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그 새로운 문화적 현상</a:t>
            </a:r>
            <a:r>
              <a:rPr b="1" i="1" lang="ko-KR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온라인게임이 어떻게 진화되어 왔으며 그것을 통해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Playtopia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라고 부르는 새로운 사회구조를 구성하였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  Playtopia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는 온라인사회를 이루는 게이머들의 새로운 거주지로 확실하게자리잡게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되었고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 가운데 게이머들은 온라인 게임을 통해 상호 교류하고 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강의의 목적는 “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Playtopia”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의 새로운 사회구성원이자 또한 새로운 사회의 개척자들에 대한 깊은 이해를 통해 이들을 위한 “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Playtopia”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를 어떻게 개발할 것인가에 그 목적이 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99"/>
                </a:solidFill>
                <a:latin typeface="Arial"/>
                <a:ea typeface="Arial"/>
              </a:rPr>
              <a:t>- Current Position : CEO, Relic Entertainment</a:t>
            </a:r>
            <a:br>
              <a:rPr sz="1100"/>
            </a:br>
            <a:r>
              <a:rPr b="1" lang="ko-KR" sz="1100" spc="-1" strike="noStrike">
                <a:solidFill>
                  <a:srgbClr val="003399"/>
                </a:solidFill>
                <a:latin typeface="Arial"/>
                <a:ea typeface="Arial"/>
              </a:rPr>
              <a:t>- Games Developed : Homeworld 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Chief of Computer Gaming World Magazin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의 전편집자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Johnny Wils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Alex Garde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을 가리켜 게임산업에 있어서 선두주자라고 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Distintive Softwar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사를 본사로 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Vancouver B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1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살에 게임테스터로서 그의 비디오게임산업에 있어서의 경력이 시작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 후 수년동안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Ale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Electronic Arts Canada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Radical Entertainmen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라는 회사에서 세계 최고의 개발자들과 함께 일해왔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현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2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살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Ale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는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Relic Entertainment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라는 회사를 세웠는데 이는 북아메리카에서 최고로 우수한 게임개발 스튜디오중 하나라고 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Reli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의 첫번째 제품인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Homeworld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CNN.Com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MSNB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리고 세계에서 가장 큰 컴퓨터 게임잡지인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pc gamer”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부터 “올해의 게임” 등을 포함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5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개의 상을 수상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Ale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는 최근에 “올해 캐나다의 젊은 사업가”로 선정되었고 다른 사업에 있어서의 성공으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The Glove and Mail, The Financial Post, The CBC national Magazine, CNN Online, Vicki Gabereau, Forbes Magazin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리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BC Business Magazin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의 표지를 장식해 오고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3" name=""/>
          <p:cNvSpPr/>
          <p:nvPr/>
        </p:nvSpPr>
        <p:spPr>
          <a:xfrm>
            <a:off x="430200" y="190512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040" y="398772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alex" descr=""/>
          <p:cNvPicPr/>
          <p:nvPr/>
        </p:nvPicPr>
        <p:blipFill>
          <a:blip r:embed="rId2"/>
          <a:stretch/>
        </p:blipFill>
        <p:spPr>
          <a:xfrm>
            <a:off x="7359480" y="4232160"/>
            <a:ext cx="1319400" cy="1247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1680" y="1164960"/>
            <a:ext cx="83948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Yoshinaro Takoto 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ko-KR" sz="1400" spc="-1" strike="noStrike">
                <a:solidFill>
                  <a:srgbClr val="ff3300"/>
                </a:solidFill>
                <a:latin typeface="Arial"/>
              </a:rPr>
              <a:t>Success 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ession 2.1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주제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laystation2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의 온라인 게임 개발전략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·PS2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의 온라인 게임 개발의 문제점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·PS2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모뎀 과 하드의 상황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·PS2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가 온라인 시장에서 승리하기 위한조건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차세대 온라인 비즈니스 시장에서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온라인 게임의능력을 검정한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온라인 게임의 각자의 플렛폼의특징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및 동향을 파악한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Yoshinaro Takoto : CEO of Success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1978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년 창업이래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600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타이틀 이상의 게임을 개발하였고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,  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작년과 올해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100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타이틀 이상을 발매하는 일본 </a:t>
            </a:r>
            <a:endParaRPr b="1" lang="en-US" sz="13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게임개발 업체의 중요한 입지를 구축하고 있는 인물이다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.     Simple 1500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시리즈를 일본에서 최초로 기획</a:t>
            </a:r>
            <a:endParaRPr b="1" lang="en-US" sz="13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해서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Superlite 1500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시리즈를 포함하여 콘솔게임으로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600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만장 이상 판매기록한 장본인이기도 하다   대표</a:t>
            </a:r>
            <a:endParaRPr b="1" lang="en-US" sz="13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적인 타이틀로는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Simple 1500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시리즈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,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동경버스안내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,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상하이시리즈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, RPG 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시쿠루시 시리즈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, </a:t>
            </a:r>
            <a:endParaRPr b="1" lang="en-US" sz="13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SuperLite 1500</a:t>
            </a:r>
            <a:r>
              <a:rPr b="0" lang="ko-KR" sz="1300" spc="-1" strike="noStrike">
                <a:solidFill>
                  <a:srgbClr val="383838"/>
                </a:solidFill>
                <a:latin typeface="Arial"/>
              </a:rPr>
              <a:t>시리즈 등</a:t>
            </a:r>
            <a:endParaRPr b="1" lang="en-US" sz="13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8" name=""/>
          <p:cNvSpPr/>
          <p:nvPr/>
        </p:nvSpPr>
        <p:spPr>
          <a:xfrm>
            <a:off x="463680" y="1830240"/>
            <a:ext cx="810396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040" y="375444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1680" y="1164960"/>
            <a:ext cx="83948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im Train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ff3300"/>
                </a:solidFill>
                <a:latin typeface="Arial"/>
              </a:rPr>
              <a:t>Big Huge Games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ession 2.2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Topic : 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“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온라인게임의 시장과 비즈니스 트랜드” 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반적인 온라인 게임의 경향과 그에 따른 온라인게임 비즈니스와 마케팅의 전망을 말한다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또한 최근의 온라인 게임의 가격모델과 퍼블리셔가 투자하고자 하는 게임은 무엇인가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이 분야에서 강의를 할 것이다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192888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" y="382104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0200" y="4038480"/>
            <a:ext cx="6919560" cy="2590560"/>
            <a:chOff x="430200" y="4038480"/>
            <a:chExt cx="6919560" cy="2590560"/>
          </a:xfrm>
        </p:grpSpPr>
        <p:sp>
          <p:nvSpPr>
            <p:cNvPr id="156" name=""/>
            <p:cNvSpPr/>
            <p:nvPr/>
          </p:nvSpPr>
          <p:spPr>
            <a:xfrm>
              <a:off x="430200" y="4038480"/>
              <a:ext cx="6919560" cy="25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30200" y="4038480"/>
              <a:ext cx="6919200" cy="2590200"/>
              <a:chOff x="430200" y="4038480"/>
              <a:chExt cx="6919200" cy="2590200"/>
            </a:xfrm>
          </p:grpSpPr>
          <p:sp>
            <p:nvSpPr>
              <p:cNvPr id="158" name=""/>
              <p:cNvSpPr/>
              <p:nvPr/>
            </p:nvSpPr>
            <p:spPr>
              <a:xfrm>
                <a:off x="430200" y="4038480"/>
                <a:ext cx="6919200" cy="259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0200" y="4038480"/>
                <a:ext cx="6919200" cy="259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Tim Train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은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Operations and Development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사의 부사장으로서 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Big Huge Games™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의 인터넷 개발을 책임지고 있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그는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여 년 동안 유수 게임 타이틀 개발에 참여했으며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이러한 경험을 통한 광범위한 관리 기술과 제품 지식을 회사에 응용하고 있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또한 그는 모든 장르의 컴퓨터 게임 업계에서 일한 경력을 바탕으로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예산과 일정에 맞춰 프로젝트를 수행할 팀을 조직하고 동기를 부여하는 데 탁월한 능력을 발휘하고 있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Tim Train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은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Civilization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프로젝트 멤버로서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1991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년 컴퓨터 게임 업계에 발을 들여 놓았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이후 그가 개발에 참여한 게임은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Masters of Orion™, Command HQ™, Darklands™, Colonization®, F14 Fleet Defender™, Civilization II®, Magic: The Gathering™, Sid Meier's Gettysburg!™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등 수없이 많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그는 또한 프로듀서이자 디자이너로서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Alpha Centauri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개발하고 감독했는데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이 게임은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년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PC Gamer's Best Turn-based Strategy Game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상을 수상한 바 있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가장 최근에는 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Alpha Centauri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의 확장팩인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Sid Meier's Alien Crossfire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을 디자인하고 생산했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Tim Train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은 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Johns Hopkins University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에서 국제학을 전공했으며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부전공으로 심리학을 공부했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그는 여가 시가에는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Ike Ellis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와 얼티미트 프리스비를 즐겨 하며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또한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John Fitzgerald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와는 영화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"Aliens" 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감독판이 극장상영판에 비해 얼마나 질이 떨어지는지에 대한 논쟁도 즐긴다고 한다</a:t>
                </a:r>
                <a:r>
                  <a:rPr b="0" lang="ko-KR" sz="1100" spc="-1" strike="noStrike">
                    <a:solidFill>
                      <a:srgbClr val="000000"/>
                    </a:solidFill>
                    <a:latin typeface="Arial"/>
                  </a:rPr>
                  <a:t>.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0" name="Tim%20Train" descr=""/>
          <p:cNvPicPr/>
          <p:nvPr/>
        </p:nvPicPr>
        <p:blipFill>
          <a:blip r:embed="rId2"/>
          <a:stretch/>
        </p:blipFill>
        <p:spPr>
          <a:xfrm>
            <a:off x="7683480" y="4038480"/>
            <a:ext cx="11034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1680" y="1164960"/>
            <a:ext cx="83948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eamus Blackley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3300"/>
                </a:solidFill>
                <a:latin typeface="Arial"/>
              </a:rPr>
              <a:t>Microsoft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ession 2.3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Topic: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게임산업에 대한 조망”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Seamus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는 이번 강연에서 그간의 경험을 통해 얻은 바를 바탕으로 다음과 같은 질문에 대한 해답을 제시할 것이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1.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 업계의 현재는 어떠한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굴림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또 게임이 매체의 주류가 될 수 있는 방법은 도대체 무엇인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굴림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 개발자가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Publisher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와 일할 때 더 좋은 결과를 내는 경우는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또 더 나쁜 결과를 내는 경우는 어떤 때인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4.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 개발이 취소되는 경우는 어떤 때인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5.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Publisher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가 곤란한 상황에 처한 게임 개발자들을 도울 수 있는 방법은 무엇인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6.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 개발자들이 게임 타이틀을 가장 효과적으로 홍보할 수 있는 방법은 무엇인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5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7.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 개발자가 자신이 개발한 타이틀을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Publisher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의 강력한 지원을 받게끔 만드는 방법은 무엇인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8.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다양한 속성을 지닌 시장에서 게임이 성공을 거둘 수 있는 방법은 무엇인가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Seamu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는 이 외에도 새로운 시스템을 런칭하는 과정에서 그가 경험하는 다양하고 유익한 정보를 전해 줄 것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0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Seamus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는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Xbox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의 창시자로서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Xbox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기술 담당 책임자로 일하면서 전세계 주요 시장에서 활동하고 있는 수백 명의 게임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개발자들과 게임 업계 인사들과 접촉하고 있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 Seamus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는 현재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Xbox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 타이틀 승인 위원회의 위원직을 맡고 있으며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수백 건의 게임 개발 제안서와 아이디어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사업 모델을 검토하는 동시에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이러한 안들이 단순한 디자인 문서에서 실제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게임으로 발전해 나가는 과정을 지켜보고 있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 Seamus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는 또한 게임 또는 그 외의 분야에서 활동하는 다양한 부류의 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기자들과 수백 차례 기자 회견을 가진 바 있으며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마케팅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홍보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배급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판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바이어 등과 관련하여 헤아릴 수 없을 정도로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많은 회의에 참석하였다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62" name=""/>
          <p:cNvSpPr/>
          <p:nvPr/>
        </p:nvSpPr>
        <p:spPr>
          <a:xfrm>
            <a:off x="430200" y="181620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200" y="462276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62960" y="1816200"/>
            <a:ext cx="1520640" cy="2036880"/>
            <a:chOff x="7662960" y="1816200"/>
            <a:chExt cx="1520640" cy="2036880"/>
          </a:xfrm>
        </p:grpSpPr>
        <p:pic>
          <p:nvPicPr>
            <p:cNvPr id="166" name="Seamus%20Blackley" descr=""/>
            <p:cNvPicPr/>
            <p:nvPr/>
          </p:nvPicPr>
          <p:blipFill>
            <a:blip r:embed="rId2"/>
            <a:stretch/>
          </p:blipFill>
          <p:spPr>
            <a:xfrm>
              <a:off x="7770960" y="1816200"/>
              <a:ext cx="118080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662960" y="3576600"/>
              <a:ext cx="15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eamus Black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2040" y="1033560"/>
            <a:ext cx="681192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Arial"/>
              </a:rPr>
              <a:t>Folker Schamel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ko-KR" sz="1400" spc="-1" strike="noStrike">
                <a:solidFill>
                  <a:srgbClr val="ff3300"/>
                </a:solidFill>
                <a:latin typeface="Arial"/>
              </a:rPr>
              <a:t>Spinor GmbH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ession 2.4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3300"/>
                </a:solidFill>
                <a:latin typeface="Arial"/>
              </a:rPr>
              <a:t>Topic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Next Generation 3D Massive Multiplayer Technologies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(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체"/>
              </a:rPr>
              <a:t>How technology can help making a game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게임을 개발하는데 있어서 점점 더 많은 것을 요구하고 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게임들이 표준화되고 복잡해 짐에 따라 그에 대한 개발비와 위험도 증가되고 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이번 강의는  복잡한 게임을 어떻게 단순화 하여 게임을 개발할 수 있을까에 대한 내용이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여기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가지 열쇠가 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Networking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internet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의 조직화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둘째 차세대 개발과정 학습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셋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굴림"/>
              </a:rPr>
              <a:t>Micro-component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를 기초로 한 소프트웨어 개발이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4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4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indent="0">
              <a:lnSpc>
                <a:spcPct val="60000"/>
              </a:lnSpc>
              <a:spcBef>
                <a:spcPts val="6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1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69" name=""/>
          <p:cNvSpPr/>
          <p:nvPr/>
        </p:nvSpPr>
        <p:spPr>
          <a:xfrm>
            <a:off x="392040" y="1860480"/>
            <a:ext cx="810432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2520" y="4297320"/>
            <a:ext cx="8103960" cy="0"/>
          </a:xfrm>
          <a:prstGeom prst="line">
            <a:avLst/>
          </a:prstGeom>
          <a:ln w="28440">
            <a:solidFill>
              <a:srgbClr val="ee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강사소개 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(Sessions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172" name=""/>
          <p:cNvSpPr/>
          <p:nvPr/>
        </p:nvSpPr>
        <p:spPr>
          <a:xfrm>
            <a:off x="452520" y="4699080"/>
            <a:ext cx="71118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Folker Schamel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은 이론물리학자로서 수년 동안 독일 뮌헨 대학에서 상대성이론과 소립자  물리학에 대한 연구를 했으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후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년 게임 개발 산업으로 자리를 옮겼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는 뮌헨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Spinor GmbH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의 창립자 중 한 사람인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이 회사는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년 어느 한 아케이드 게임 회사가 기술 파트를 분사시켜 만든 것이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여기에서 그는 기술을 책임지고 있으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온라인 게임과 네트워킹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게임 개발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생산 워크플로우 및 요소기반 게임 개발에 주력하고 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이러한 기술은 이미 몇몇 아케이드 게임 시스템을 구현하는 데 성공적으로 이용되었으며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또한 텔레비전으로 매일 생중계되는 세계 최초의 대화식 가상현실 쇼에도 응용되기도 하였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folker_schamel" descr=""/>
          <p:cNvPicPr/>
          <p:nvPr/>
        </p:nvPicPr>
        <p:blipFill>
          <a:blip r:embed="rId2"/>
          <a:stretch/>
        </p:blipFill>
        <p:spPr>
          <a:xfrm>
            <a:off x="7746840" y="2543040"/>
            <a:ext cx="11145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d2db3"/>
                </a:solidFill>
                <a:latin typeface="HY견고딕"/>
              </a:rPr>
              <a:t>행사개요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1393560"/>
            <a:ext cx="784872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행 사 명 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『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The 1</a:t>
            </a:r>
            <a:r>
              <a:rPr b="1" lang="ko-KR" sz="1600" spc="-1" strike="noStrike" baseline="30000">
                <a:solidFill>
                  <a:srgbClr val="000000"/>
                </a:solidFill>
                <a:latin typeface="돋움"/>
                <a:ea typeface="굴림"/>
              </a:rPr>
              <a:t>st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 World Cyber Games  Conference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』 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주     제 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: PC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온라인 게임의 미래와 콘솔게임의 온라인 전략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행사기간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:  2001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년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월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6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일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~ 12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월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일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행사장소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코엑스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( Conference Center 310,311,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오디토리움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주      최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월드사이버게임즈 조직위원회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주      관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: (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재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게임종합지원센터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㈜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ICM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후      원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문화관광부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삼성전자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한국경제신문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전자신문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디지털타임스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코리아헤럴드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, e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채널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디지털조선게임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</a:rPr>
              <a:t>, GameSpot, Gameshot 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18960" indent="-31896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SzPct val="1157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강연대상</a:t>
            </a:r>
            <a:r>
              <a:rPr b="1" lang="ko-KR" sz="1600" spc="-1" strike="noStrike">
                <a:solidFill>
                  <a:srgbClr val="000000"/>
                </a:solidFill>
                <a:latin typeface="돋움"/>
                <a:ea typeface="굴림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Core Target :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게임 개발 업체 개발자와 기획자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유관기업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Sub Target :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협회 및 학회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아마츄어 개발자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학생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기타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</a:rPr>
              <a:t> 해외 개발사 관계자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</a:rPr>
              <a:t>Keynote Speech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07880" y="1149480"/>
          <a:ext cx="8293320" cy="765000"/>
        </p:xfrm>
        <a:graphic>
          <a:graphicData uri="http://schemas.openxmlformats.org/drawingml/2006/table">
            <a:tbl>
              <a:tblPr/>
              <a:tblGrid>
                <a:gridCol w="1619280"/>
                <a:gridCol w="6674040"/>
              </a:tblGrid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Thursday, Dec 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9:00am – 10:2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오디토리움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향후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간의 온라인 게임과 멀티 플랫폼 미래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강사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: Stuart Moulder (GM, Microsoft G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84360" y="3386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0400" y="352908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8401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8880" y="2057400"/>
            <a:ext cx="811044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온라인 게임의 확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현재 온라인게임은 엔터테인먼트로서 초기단계에 와 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초기에 음반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라디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TV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처럼 사람들은 여러형태의 성장 가능성들을 보고 있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장님과 코끼리 우화같이 들릴 수 있겠지만 온라인게임이 차세대 스포츠가 될수 있을까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대중적인 휴식활동이 될 것인가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?)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새로운 친교활동이 될수 있는가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?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오늘날 어느정도는 현실화 되고 있는듯 하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현재 대부분의 온라인 게임은 개발자 자신의 기호대로 개발이 되어왔고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출발은 좋은 것 같아 보인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하지만 만약 온라인게임이 엔터테인먼트의 매체로 발전하는 과정으로 향후 발전하기를 원한다면 생각을 바꾸어야 한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즉 소비자 중심의 새로운 매체로 봐야 한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렇게 했을때 우리앞에 많은 기회와 도전이 있을것이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휴먼매직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이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러한 경쟁시장에서 어떻게 새로운 고객을 확보할 수 있을 것인가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휴먼매직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세계적인 게임들가운데 어떻게하면 온라인게임을 좋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아하는 고객들을 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위한 게임구조를 만들어 수익을 창출할 것인가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무료 게임이용자들을 어떻게 하면 우리의 비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지니스와 접목시킬 수 있는가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잠재적 고객에게 온라인 게임에 대한 통합된 포트콜리오 전략은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다양한 접속방법을 통해 어떻게 풍성하고 지속적인 경험을 제공해 줄수 있는가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휴대용게임기와 무선매체에는 어떻게 접목시킬까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5680" y="1614600"/>
            <a:ext cx="2227320" cy="341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tuart Mou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9360" y="5965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Keynote Speaker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pic>
        <p:nvPicPr>
          <p:cNvPr id="56" name="Stuart%20Moulder%20Publicity%20Photo" descr=""/>
          <p:cNvPicPr/>
          <p:nvPr/>
        </p:nvPicPr>
        <p:blipFill>
          <a:blip r:embed="rId1"/>
          <a:stretch/>
        </p:blipFill>
        <p:spPr>
          <a:xfrm>
            <a:off x="6942240" y="1044720"/>
            <a:ext cx="1069920" cy="154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0120" y="2174760"/>
            <a:ext cx="752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83838"/>
                </a:solidFill>
                <a:latin typeface="Verdana"/>
                <a:ea typeface="돋움"/>
              </a:rPr>
              <a:t>- </a:t>
            </a:r>
            <a:r>
              <a:rPr b="1" lang="zh-CN" sz="1200" spc="-1" strike="noStrike">
                <a:solidFill>
                  <a:srgbClr val="383838"/>
                </a:solidFill>
                <a:latin typeface="Verdana"/>
                <a:ea typeface="돋움"/>
              </a:rPr>
              <a:t>현 지위 </a:t>
            </a:r>
            <a:r>
              <a:rPr b="1" lang="en-US" sz="1200" spc="-1" strike="noStrike">
                <a:solidFill>
                  <a:srgbClr val="383838"/>
                </a:solidFill>
                <a:latin typeface="Verdana"/>
                <a:ea typeface="돋움"/>
              </a:rPr>
              <a:t>: Microsoft Game Division </a:t>
            </a:r>
            <a:r>
              <a:rPr b="1" lang="zh-CN" sz="1200" spc="-1" strike="noStrike">
                <a:solidFill>
                  <a:srgbClr val="383838"/>
                </a:solidFill>
                <a:latin typeface="Verdana"/>
                <a:ea typeface="돋움"/>
              </a:rPr>
              <a:t>총책임자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0120" y="2827440"/>
            <a:ext cx="817884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tuart Moulder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는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1991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년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Sierra On-line (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현재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Vivendi-Universal Interactive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의 한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Division)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에 입사함으로  컴퓨터 게임 업계에 발을 들여 놓게 되었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   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그는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Sierra On-line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의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ixed up  Mother Goose(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</a:rPr>
              <a:t>Enhanced CD-ROM Version)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을 제작하였고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이는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Software Publisher's Association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로부터 특별상을 수여하기도 하였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또한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Castle of Dr. Brain, King's Quest 1, Leisure Suit Larry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등에서 프로듀서 및 감독으로 일하기도 했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이후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1993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년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The Sierra Network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에 응용프로그램 감독으로 자리를 옮겼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   The Sierra Network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는 온라인 게임 분야의 개척자였는데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그는 이 곳에서 일하면서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개의 클라이언트 소프트웨어 버전과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개의 게임을 개발했으며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또한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Shadows of Twinion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이라는 온라인 롤플레잉 게임의 신화를 창조하기도 하였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oulder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는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1994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년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The Sierra Network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를 떠나 현재 근무하고 있는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icrosoft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로 왔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그 당시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icrosoft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는  신사업으로 게임을 개척하고 있었고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, Moulder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가 게임 부문 수석 프로듀서로서 오게 된 것이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그는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icrosoft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사에서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년 이상 근무해 오고 있으며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재직 기간 동안 수 많은 게임 타이틀을 제작했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그가 만든 대표적인 타이틀로는 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Age of Empires I &amp; II, Motocross Madness, Mechwarrior 4, Halo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등이 있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현재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oulder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는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icrosoft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의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PC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게임 사업  및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XBOX 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부문의 총 책임자로 있다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견고딕"/>
              </a:rPr>
              <a:t>Keynote Speech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7880" y="1149480"/>
          <a:ext cx="8293320" cy="765000"/>
        </p:xfrm>
        <a:graphic>
          <a:graphicData uri="http://schemas.openxmlformats.org/drawingml/2006/table">
            <a:tbl>
              <a:tblPr/>
              <a:tblGrid>
                <a:gridCol w="1619280"/>
                <a:gridCol w="6674040"/>
              </a:tblGrid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Thursday, Dec 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0:40am – 12:00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오디토리움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nline Games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의 확산이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trategy game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과 소규모 개발사들의 개발전략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강사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: Brian Reynolds( President, Big Huge Gam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84360" y="3386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0400" y="352908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8401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880" y="2160720"/>
            <a:ext cx="829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훌륭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멀티플레이게임을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개발하는데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필요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미래에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대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전망은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내가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어떤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게임을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개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할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것인지를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결정하는데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중요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영향을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주어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왔고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,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특히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좀더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대중적인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소비자시장에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접근할수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있는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온라인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전략게임을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개발하는데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있어서는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중요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특징들을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고려해야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한다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.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이것은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또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소규모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개발사에게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중요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의미를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갖는다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.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이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본인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회사의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사례를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통해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이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문제를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다루어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보고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일반적으로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다른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개발사들에게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미치는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의미에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대해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다루어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 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돋움"/>
              </a:rPr>
              <a:t>보겠다</a:t>
            </a:r>
            <a:r>
              <a:rPr b="0" lang="ko-KR" sz="1400" spc="-1" strike="noStrike">
                <a:solidFill>
                  <a:srgbClr val="222222"/>
                </a:solidFill>
                <a:latin typeface="Tahoma"/>
                <a:ea typeface="Tahoma"/>
              </a:rPr>
              <a:t>.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30120" y="2351160"/>
            <a:ext cx="817884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38383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 </a:t>
            </a:r>
            <a:r>
              <a:rPr b="1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현 지위 </a:t>
            </a:r>
            <a:r>
              <a:rPr b="1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: President, Big Huge Games</a:t>
            </a:r>
            <a:br>
              <a:rPr sz="1400"/>
            </a:br>
            <a:r>
              <a:rPr b="1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- </a:t>
            </a:r>
            <a:r>
              <a:rPr b="1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개발게임 </a:t>
            </a:r>
            <a:r>
              <a:rPr b="1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: Colonization, Civilization II, Alpha Centauri </a:t>
            </a:r>
            <a:br>
              <a:rPr sz="1400"/>
            </a:br>
            <a:r>
              <a:rPr b="1" lang="ko-KR" sz="1400" spc="-1" strike="noStrike">
                <a:solidFill>
                  <a:srgbClr val="38383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9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년 경력의 베테랑이라고 할 수 있는 브라이언 레이놀즈는 현재 게임산업에 있어서 가장 재능있고 생산적인 게임 설계가 중 하나로 알려져 있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최근에 그는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PC Gamer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라는 잡지에서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24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명의 “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Game God’s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중 한사람으로 선정되기도 하였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그는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1993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년부터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Colonization, Civilization2,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그리고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Alpha Centauri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등 연속적인 히트를 기록한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Stratgy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게임을 설계해 왔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프로그래밍분야에 대가로 알려진 그의 놀라운 자질은 그가 가지고 있는 비전을 현실화 시킬 수 있는 장점이 되었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그는 인간의 특성을 설득력있게 모델링화함으로써 인공지능을 정교하게 만들어 그명성을 얻어가고 있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거기에다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Firaxis Games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의 창업동반자로서 브라이언은 오락 소프트웨어 산업과 독자적인 소프트웨어 개발사가 처할 수 있는 문제점들과 기회를 잘 인식하면서 많은 경험을 쌓아왔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 Big Huges Games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사의 사장으로서 레이놀즈는 재미있는 게임의 설계와 원만한 팀구성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,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그리고 성공적인 제품을 만들어내기 위해 다양한 요소들을 조화시키는데 있어서 그의 이미 입증된 재능을 쏟아부었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제한된 시간과 예산내에서 게임을 만들어내는 그의 탁월한 능력은 흥미로운 전략게임의 한 줄기를 형성하고 있다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. </a:t>
            </a:r>
            <a:r>
              <a:rPr b="0" lang="ko-KR" sz="1400" spc="-1" strike="noStrike" u="sng">
                <a:solidFill>
                  <a:srgbClr val="ccccff"/>
                </a:solidFill>
                <a:uFillTx/>
                <a:latin typeface="Verdana"/>
                <a:ea typeface="돋움"/>
                <a:hlinkClick r:id="rId1" action="ppaction://hlinksldjump"/>
              </a:rPr>
              <a:t> </a:t>
            </a:r>
            <a:r>
              <a:rPr b="0" lang="ko-KR" sz="1400" spc="-1" strike="noStrike">
                <a:solidFill>
                  <a:srgbClr val="383838"/>
                </a:solidFill>
                <a:latin typeface="Verdana"/>
                <a:ea typeface="돋움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120" y="1442880"/>
            <a:ext cx="2227320" cy="341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Brian Reyn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9360" y="5965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Keynote Speaker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pic>
        <p:nvPicPr>
          <p:cNvPr id="68" name="brianreynolds" descr=""/>
          <p:cNvPicPr/>
          <p:nvPr/>
        </p:nvPicPr>
        <p:blipFill>
          <a:blip r:embed="rId2"/>
          <a:stretch/>
        </p:blipFill>
        <p:spPr>
          <a:xfrm>
            <a:off x="6875640" y="763560"/>
            <a:ext cx="12697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3760" y="526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Sessions  Introduction (1</a:t>
            </a:r>
            <a:r>
              <a:rPr b="0" lang="en-US" sz="2400" spc="-1" strike="noStrike" baseline="30000">
                <a:solidFill>
                  <a:srgbClr val="2d2db3"/>
                </a:solidFill>
                <a:latin typeface="HY견고딕"/>
              </a:rPr>
              <a:t>st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 Day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70" name=""/>
          <p:cNvSpPr/>
          <p:nvPr/>
        </p:nvSpPr>
        <p:spPr>
          <a:xfrm>
            <a:off x="5702400" y="1181160"/>
            <a:ext cx="3352680" cy="685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Tra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9360" y="1181160"/>
            <a:ext cx="3353040" cy="685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Trac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8280" y="1181160"/>
            <a:ext cx="1981080" cy="685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2001  /  12  /  6 (Th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8280" y="1181160"/>
            <a:ext cx="86868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8280" y="1866960"/>
            <a:ext cx="8686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8280" y="2933640"/>
            <a:ext cx="868680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68280" y="1181160"/>
            <a:ext cx="8688240" cy="2819160"/>
            <a:chOff x="368280" y="1181160"/>
            <a:chExt cx="8688240" cy="2819160"/>
          </a:xfrm>
        </p:grpSpPr>
        <p:sp>
          <p:nvSpPr>
            <p:cNvPr id="77" name=""/>
            <p:cNvSpPr/>
            <p:nvPr/>
          </p:nvSpPr>
          <p:spPr>
            <a:xfrm>
              <a:off x="368280" y="1181160"/>
              <a:ext cx="0" cy="281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55080" y="1181160"/>
              <a:ext cx="1440" cy="281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68280" y="3998880"/>
            <a:ext cx="868680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0560" y="2019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1:30pm – 3:30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9360" y="1185840"/>
            <a:ext cx="0" cy="281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2400" y="118116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97360" y="1486080"/>
            <a:ext cx="2146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돋움"/>
                <a:ea typeface="돋움"/>
              </a:rPr>
              <a:t>(Room 3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10360" y="1486080"/>
            <a:ext cx="2413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돋움"/>
                <a:ea typeface="돋움"/>
              </a:rPr>
              <a:t>(Room 3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0560" y="300996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3:50pm – 5:50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984320"/>
            <a:ext cx="327672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1. 1 Cliff Bleszinski,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Epic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Making Hit Games With a Team of 20 (or Les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2000" y="3009960"/>
            <a:ext cx="35049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1. 2 Bruce Shelley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Ensemble 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D Game Development Case Stud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ge of Mytholo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03920" y="2052720"/>
            <a:ext cx="3351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2.1 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Yoshinari Takato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, CEO of Succes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PlayStation’s Online Game Development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2760" y="2957400"/>
            <a:ext cx="335124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2.2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im Train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VP of Development,Big Huge G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Market and Business Tre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in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3760" y="475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Sessions  Introduction (2</a:t>
            </a:r>
            <a:r>
              <a:rPr b="0" lang="en-US" sz="2400" spc="-1" strike="noStrike" baseline="30000">
                <a:solidFill>
                  <a:srgbClr val="2d2db3"/>
                </a:solidFill>
                <a:latin typeface="HY견고딕"/>
              </a:rPr>
              <a:t>nd</a:t>
            </a: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 Day)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1447920"/>
            <a:ext cx="3352680" cy="685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Tra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1447920"/>
            <a:ext cx="3352680" cy="685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Trac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47920"/>
            <a:ext cx="1981440" cy="685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가는각진제목체"/>
              </a:rPr>
              <a:t>2001  /  12  /  7 (F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447920"/>
            <a:ext cx="86868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133720"/>
            <a:ext cx="8686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200400"/>
            <a:ext cx="86868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1447920"/>
            <a:ext cx="8688240" cy="3860280"/>
            <a:chOff x="380880" y="1447920"/>
            <a:chExt cx="8688240" cy="3860280"/>
          </a:xfrm>
        </p:grpSpPr>
        <p:sp>
          <p:nvSpPr>
            <p:cNvPr id="98" name=""/>
            <p:cNvSpPr/>
            <p:nvPr/>
          </p:nvSpPr>
          <p:spPr>
            <a:xfrm>
              <a:off x="380880" y="1447920"/>
              <a:ext cx="0" cy="386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67680" y="1447920"/>
              <a:ext cx="1440" cy="386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80880" y="5307120"/>
            <a:ext cx="86868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505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3:50pm – 5:50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1452600"/>
            <a:ext cx="0" cy="385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1406520"/>
            <a:ext cx="0" cy="293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09960" y="1752480"/>
            <a:ext cx="2146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돋움"/>
                <a:ea typeface="돋움"/>
              </a:rPr>
              <a:t>(Room 3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38960" y="17524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돋움"/>
                <a:ea typeface="돋움"/>
              </a:rPr>
              <a:t>(Room 3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2860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1:30pm – 3:30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9800" y="4532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6:00pm – 9:00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27200" y="4335480"/>
            <a:ext cx="632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A free conference/meeting session for speakers interested in meeting Korean game industry professionals and representatives (OR Formation of a networking body for guests and domestic development profession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2680" y="4341960"/>
            <a:ext cx="86868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71760" y="3349800"/>
            <a:ext cx="31258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1.4  Alex Garden,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Relic Entertai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How Online Gaming is Shaping a New Cultural Phenomo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276640"/>
            <a:ext cx="304956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000000"/>
                </a:solidFill>
                <a:uFillTx/>
                <a:latin typeface="Arial"/>
              </a:rPr>
              <a:t>1.3 Mark Rein, 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Arial"/>
              </a:rPr>
              <a:t>Vice President of Epic Games,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Jack Porter, 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Arial"/>
              </a:rPr>
              <a:t>Top Programer</a:t>
            </a:r>
            <a:r>
              <a:rPr b="1" lang="ko-KR" sz="1200" spc="-1" strike="noStrike" u="sng">
                <a:solidFill>
                  <a:srgbClr val="2d2db3"/>
                </a:solidFill>
                <a:uFillTx/>
                <a:latin typeface="Arial"/>
              </a:rPr>
              <a:t>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Arial"/>
              </a:rPr>
              <a:t>of Epic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The Technology Behind the Unreal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2286000"/>
            <a:ext cx="327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2.3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eamus Blackley, 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The view from Orbit:  Our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00680" y="3349800"/>
            <a:ext cx="3267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2.4 Schamel Folker,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CTO of Spinor GmbH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Next Generation 3D Massive Multipla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gt; How technology can help making a game.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200" y="5425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3"/>
                </a:solidFill>
                <a:latin typeface="HY견고딕"/>
              </a:rPr>
              <a:t>Events</a:t>
            </a:r>
            <a:endParaRPr b="0" lang="en-US" sz="2400" spc="-1" strike="noStrike">
              <a:solidFill>
                <a:srgbClr val="2d2db3"/>
              </a:solidFill>
              <a:latin typeface="HY견고딕"/>
            </a:endParaRPr>
          </a:p>
        </p:txBody>
      </p:sp>
      <p:sp>
        <p:nvSpPr>
          <p:cNvPr id="115" name=""/>
          <p:cNvSpPr/>
          <p:nvPr/>
        </p:nvSpPr>
        <p:spPr>
          <a:xfrm>
            <a:off x="349200" y="1085760"/>
            <a:ext cx="84567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"/>
              </a:rPr>
              <a:t>1.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</a:rPr>
              <a:t>국내게임개발업체 방문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행사내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월드사이버게임즈 컨퍼런스에 참여하는 강사진과 해외미디어 취재진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국내 게임개발 업체를 방문해 국내 게임개발 현장을 체험함으로써 한국게임의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세계화에 대한 방향을 모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: 1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- 18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1560" y="2922120"/>
            <a:ext cx="784836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2.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개발자의 밤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(Platinum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패키지 프로그램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행사내용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한국게임의 세계화 방안에 대한 자유토론      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국내게임개발자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마케팅 담당자와 컨퍼런스 강사진이 한국게임의 세계화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방안에 대해 개발 및 기획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마케팅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룹으로 나눠 자유롭게 토론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일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: 1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월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일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3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분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- 19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3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분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참석자격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사전등록자중 선착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2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명으로 제한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장소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: Asem Hall Meeting Room (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층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203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호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나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디너파티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자유토론 후 저녁만찬을 곁들인 교류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교감의 자리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일시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: 1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월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일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19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시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3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분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- 21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시 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장소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: Asem Hall Meeting Room (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층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203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호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1T03:02:32Z</dcterms:created>
  <dc:creator>김용진</dc:creator>
  <dc:description/>
  <dc:language>en-US</dc:language>
  <cp:lastModifiedBy>Shawn Park</cp:lastModifiedBy>
  <cp:lastPrinted>1999-07-09T04:45:21Z</cp:lastPrinted>
  <dcterms:modified xsi:type="dcterms:W3CDTF">2001-11-30T06:23:50Z</dcterms:modified>
  <cp:revision>660</cp:revision>
  <dc:subject/>
  <dc:title>슬라이드 제목 없음</dc:title>
</cp:coreProperties>
</file>